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6072-FE23-4E28-8E7F-9F661C19E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1FA1-D67F-47A2-AF0A-4262EC98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272F-D225-43FD-97F6-B4754030F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0C3A-1CF7-47D1-A81C-A3879218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9EB8-79FE-423F-8B6E-D7639378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A7CC-208B-4A55-8218-C9351522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6557-686C-4FA2-B218-2BC705C7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01C3-7872-4E00-9125-4E7ECD91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2D1D-5977-48A2-9B8E-49B38F5F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AD0A-2FB1-4EA2-8A83-FE8AFE95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2759-7E23-4C0B-9B18-0B274EB1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2C97-8E68-4D99-8A6E-5E0BD47E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1864-3370-4E96-BCB4-BC5CF4AB5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chool-wires.wikispaces.com/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“Overview”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934320" cy="5200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00400" y="3962520"/>
            <a:ext cx="914400" cy="457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your “home” pag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add photos, links, and text 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520" y="2476440"/>
            <a:ext cx="7848360" cy="4381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>
            <a:off x="2286000" y="2438280"/>
            <a:ext cx="990720" cy="129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3809880"/>
            <a:ext cx="2286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200400" y="2438280"/>
            <a:ext cx="1447920" cy="1371600"/>
          </a:xfrm>
          <a:prstGeom prst="line">
            <a:avLst/>
          </a:prstGeom>
          <a:ln w="381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3809880"/>
            <a:ext cx="228600" cy="22860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952880" y="2438280"/>
            <a:ext cx="1447920" cy="1981440"/>
          </a:xfrm>
          <a:prstGeom prst="line">
            <a:avLst/>
          </a:prstGeom>
          <a:ln w="381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fter you have edited the page click “Save”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0" y="4952880"/>
            <a:ext cx="533520" cy="457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819160" y="3581280"/>
            <a:ext cx="609480" cy="1295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e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o return to the wik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00:41:14Z</dcterms:created>
  <dc:creator>%$#@1</dc:creator>
  <dc:description/>
  <dc:language>en-US</dc:language>
  <cp:lastModifiedBy>%$#@1</cp:lastModifiedBy>
  <dcterms:modified xsi:type="dcterms:W3CDTF">2010-04-27T00:42:17Z</dcterms:modified>
  <cp:revision>2</cp:revision>
  <dc:subject/>
  <dc:title>Your “Overview” Page</dc:title>
</cp:coreProperties>
</file>